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B2E0C-7FEE-4DCA-85CF-1B6B360C9F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FE55C-8688-4EF6-800E-17DCD46DE3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54C21-B123-4841-8E04-7BD0C4615A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48FA3-DA69-4736-9D9E-A5B5C80188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8C6AD-D59B-4B3B-AF5E-DA67308FCA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36E01-89CE-4F69-B27F-E18704A249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76665-F2C1-43DC-9A9D-47F33DF7EA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1EC9F-5F62-474D-BF80-4D61B78DE5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9A857-03C8-4465-B1A0-F7A7377791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5A8-41AA-4648-A2E9-FD028D21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E74-6F34-47A7-8F5C-DF0F5C42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13D-D165-425E-870B-072E13BB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2AE-EE97-4B2A-9246-AEDA2372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C58B-774D-4531-85F2-02494BE5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8AE9-A4D8-4459-B499-20EB8003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42D4-638C-49FA-92E3-A5D57F95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21F9-8DA1-4189-BF44-B982E9E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0985-4A69-4DD1-9115-EA4244CC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0DBD-7DC5-4039-95CF-2B8F82C3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B7F9-013A-45BC-9A2A-33CA3F84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F6A-141E-44AD-8641-2BA91F9A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A826-233E-402F-B7E8-91BCA237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14CF-3A3D-4DF5-B554-86BE52FA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07B4-0107-4ED9-A6B3-BAF981E2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42E3-84ED-40BF-9D6F-608905D6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0D98-54B6-4EBF-9912-8F5B5B5D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F268-4037-4BFF-A534-987BEC51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559E-FBB7-47B3-8484-B3D9D852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A81F-D3EB-4364-8296-A90C80A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7A40-A26F-4F22-9BAC-9E1A493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85B8-6FF1-4D07-8512-8E722DC4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B7E-563F-4432-A4AE-9A00467C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6641-526F-4BE1-BA0E-0072DC1D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FCC9-8B5B-4600-9FBD-E72D588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F019-8607-4E2F-806B-B707C21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64D5-6E85-482B-9D5D-F572FC0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73FF-31C6-4B3F-993E-CACD7546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F080-75E3-48CC-8696-B4B037DC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1239-CBD9-449B-A52D-87DA7F3A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A16E-2C76-4110-A947-8A46CA56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B7946-B3A7-409B-8EA7-7186268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C821-7417-4A98-8FC4-38AB0FED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760-66D2-42BB-BC6E-BB303A4A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4D60-B9A7-4EDF-87D2-357E3973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F916-A3A6-4F79-8543-16883210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D7CC7-976C-414B-9DDD-8929700A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E3DC8-54FA-446B-9696-57BC40E6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2BE8-39BF-45F8-89AC-EDA974D9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E9A2-2CC0-4321-809E-E72B5E6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0973-482C-4402-A756-66DE9F59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1967-93D8-4334-A678-ED3CD6A7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D2BD-7357-4869-862A-AD3B46A9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458-1DAF-4304-8B0E-E011E0F3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B91-5967-4E09-9F54-76555553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6CF-243F-4507-BF0D-3F658B8D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FF9-8D7B-4EC9-9F7A-BB795466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0F7-67D9-45B9-A05B-64FF1A4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F1C6E-9B2E-4AD7-B211-71A0512CCD98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3DB49-A1A5-48B0-9B87-B97A29353837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009FB-2C62-449F-A7B9-6CB3EE59A2A2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E91FF-9B3F-42D0-8EC4-E73EB7A556B4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ndiheatproject.eu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2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2640" y="2881440"/>
            <a:ext cx="847404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6000"/>
            </a:br>
            <a:r>
              <a:rPr b="1" lang="en-GB" sz="4000" spc="-1" strike="noStrike">
                <a:solidFill>
                  <a:srgbClr val="0070c0"/>
                </a:solidFill>
                <a:latin typeface="Trebuchet MS"/>
              </a:rPr>
              <a:t>Work Package 6:  Communicat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14440" y="4025520"/>
            <a:ext cx="792936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By Alma Gallagher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Date:  22</a:t>
            </a:r>
            <a:r>
              <a:rPr b="1" lang="en-US" sz="3200" spc="-1" strike="noStrike" baseline="30000">
                <a:solidFill>
                  <a:srgbClr val="0070c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 May 2019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Claremorris, Co. Mayo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15" descr=""/>
          <p:cNvPicPr/>
          <p:nvPr/>
        </p:nvPicPr>
        <p:blipFill>
          <a:blip r:embed="rId1"/>
          <a:stretch/>
        </p:blipFill>
        <p:spPr>
          <a:xfrm>
            <a:off x="1476360" y="6099120"/>
            <a:ext cx="6434280" cy="758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"/>
          <p:cNvPicPr/>
          <p:nvPr/>
        </p:nvPicPr>
        <p:blipFill>
          <a:blip r:embed="rId2"/>
          <a:stretch/>
        </p:blipFill>
        <p:spPr>
          <a:xfrm>
            <a:off x="2843280" y="320760"/>
            <a:ext cx="30193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618920" y="620640"/>
            <a:ext cx="5040360" cy="52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70c0"/>
                </a:solidFill>
                <a:latin typeface="Trebuchet MS"/>
                <a:ea typeface="Times New Roman"/>
              </a:rPr>
              <a:t>Objectives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Raise Aware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Influence Attitu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Increase Knowled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Change Behaviou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250920" y="16225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600" spc="-1" strike="noStrike">
                <a:solidFill>
                  <a:srgbClr val="0070c0"/>
                </a:solidFill>
                <a:latin typeface="Trebuchet MS"/>
              </a:rPr>
              <a:t>Work Package 6: Communic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324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"/>
          <p:cNvPicPr/>
          <p:nvPr/>
        </p:nvPicPr>
        <p:blipFill>
          <a:blip r:embed="rId2"/>
          <a:stretch/>
        </p:blipFill>
        <p:spPr>
          <a:xfrm>
            <a:off x="0" y="6211800"/>
            <a:ext cx="5478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395280" y="2460600"/>
            <a:ext cx="80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0070c0"/>
                </a:solidFill>
                <a:latin typeface="Trebuchet MS"/>
              </a:rPr>
              <a:t>Activity C.1 – Start Up Activities – Ongo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Access the opportunities in each partner region for effective communication through key partner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04640" y="450864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70c0"/>
                </a:solidFill>
                <a:latin typeface="Trebuchet MS"/>
              </a:rPr>
              <a:t>Deliverable C.1.1 –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ommunication Strategy/Social Media Policy - Comple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324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"/>
          <p:cNvSpPr/>
          <p:nvPr/>
        </p:nvSpPr>
        <p:spPr>
          <a:xfrm>
            <a:off x="250920" y="15699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600" spc="-1" strike="noStrike">
                <a:solidFill>
                  <a:srgbClr val="0070c0"/>
                </a:solidFill>
                <a:latin typeface="Trebuchet MS"/>
              </a:rPr>
              <a:t>Work Package 6: Communic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2"/>
          <a:stretch/>
        </p:blipFill>
        <p:spPr>
          <a:xfrm>
            <a:off x="0" y="6211800"/>
            <a:ext cx="5478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324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"/>
          <p:cNvSpPr/>
          <p:nvPr/>
        </p:nvSpPr>
        <p:spPr>
          <a:xfrm>
            <a:off x="179280" y="23907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0070c0"/>
                </a:solidFill>
                <a:latin typeface="Trebuchet MS"/>
              </a:rPr>
              <a:t>Activity C.2 – Pub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00160" y="2982960"/>
            <a:ext cx="52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70c0"/>
                </a:solidFill>
                <a:latin typeface="Trebuchet MS"/>
              </a:rPr>
              <a:t>Deliverable C.2.2 – Output Material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934920" y="3429000"/>
            <a:ext cx="7272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1600" indent="-285840">
              <a:lnSpc>
                <a:spcPct val="150000"/>
              </a:lnSpc>
              <a:buClr>
                <a:srgbClr val="17b0e4"/>
              </a:buClr>
              <a:buFont typeface="Arial"/>
              <a:buChar char="•"/>
              <a:tabLst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andiheat brand logo is crea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71600" indent="-285840">
              <a:lnSpc>
                <a:spcPct val="150000"/>
              </a:lnSpc>
              <a:buClr>
                <a:srgbClr val="17b0e4"/>
              </a:buClr>
              <a:buFont typeface="Arial"/>
              <a:buChar char="•"/>
              <a:tabLst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Handiheat e-zine news letter completed – central databas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71600" indent="-285840">
              <a:lnSpc>
                <a:spcPct val="150000"/>
              </a:lnSpc>
              <a:buClr>
                <a:srgbClr val="17b0e4"/>
              </a:buClr>
              <a:buFont typeface="Arial"/>
              <a:buChar char="•"/>
              <a:tabLst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andiheat Brochures comple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71600" indent="-285840">
              <a:lnSpc>
                <a:spcPct val="150000"/>
              </a:lnSpc>
              <a:buClr>
                <a:srgbClr val="17b0e4"/>
              </a:buClr>
              <a:buFont typeface="Arial"/>
              <a:buChar char="•"/>
              <a:tabLst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andiheat Notebooks and Pens produc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71600" indent="-285840">
              <a:lnSpc>
                <a:spcPct val="150000"/>
              </a:lnSpc>
              <a:buClr>
                <a:srgbClr val="17b0e4"/>
              </a:buClr>
              <a:buFont typeface="Arial"/>
              <a:buChar char="•"/>
              <a:tabLst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p-ups produc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71600" indent="-285840">
              <a:lnSpc>
                <a:spcPct val="150000"/>
              </a:lnSpc>
              <a:buClr>
                <a:srgbClr val="17b0e4"/>
              </a:buClr>
              <a:buFont typeface="Arial"/>
              <a:buChar char="•"/>
              <a:tabLst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ers Produc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71600" indent="-285840">
              <a:lnSpc>
                <a:spcPct val="150000"/>
              </a:lnSpc>
              <a:buClr>
                <a:srgbClr val="17b0e4"/>
              </a:buClr>
              <a:buFont typeface="Arial"/>
              <a:buChar char="•"/>
              <a:tabLst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15" descr=""/>
          <p:cNvPicPr/>
          <p:nvPr/>
        </p:nvPicPr>
        <p:blipFill>
          <a:blip r:embed="rId2"/>
          <a:stretch/>
        </p:blipFill>
        <p:spPr>
          <a:xfrm>
            <a:off x="0" y="6211800"/>
            <a:ext cx="5478480" cy="646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250920" y="15699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600" spc="-1" strike="noStrike">
                <a:solidFill>
                  <a:srgbClr val="0070c0"/>
                </a:solidFill>
                <a:latin typeface="Trebuchet MS"/>
              </a:rPr>
              <a:t>Work Package 6: Communic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250920" y="233028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0070c0"/>
                </a:solidFill>
                <a:latin typeface="Trebuchet MS"/>
              </a:rPr>
              <a:t>Activity C.3 – Digital Activiti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539640" y="2825640"/>
            <a:ext cx="821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8480" indent="-342720">
              <a:lnSpc>
                <a:spcPct val="150000"/>
              </a:lnSpc>
              <a:buClr>
                <a:srgbClr val="17b0e4"/>
              </a:buClr>
              <a:buFont typeface="Arial"/>
              <a:buChar char="•"/>
              <a:tabLst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stablishment of Project website </a:t>
            </a:r>
            <a:r>
              <a:rPr b="0" lang="en-GB" sz="2000" spc="-1" strike="noStrike" u="sng">
                <a:solidFill>
                  <a:srgbClr val="3fcde7"/>
                </a:solidFill>
                <a:uFillTx/>
                <a:latin typeface="Calibri"/>
                <a:ea typeface="Times New Roman"/>
                <a:hlinkClick r:id="rId1"/>
              </a:rPr>
              <a:t>www.handiheatproject.eu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and social media tools as well as on-line training video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28480" indent="-342720">
              <a:lnSpc>
                <a:spcPct val="150000"/>
              </a:lnSpc>
              <a:tabLst>
                <a:tab algn="l" pos="0"/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50920" y="3921120"/>
            <a:ext cx="80946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70c0"/>
                </a:solidFill>
                <a:latin typeface="Trebuchet MS"/>
              </a:rPr>
              <a:t>Deliverable C.3.1 – Digital Resour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800280" indent="-343080">
              <a:lnSpc>
                <a:spcPct val="2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ctive Social media accounts; Facebook and Twitter – Ongo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00280" indent="-343080">
              <a:lnSpc>
                <a:spcPct val="2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ebsite under constru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1324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250920" y="15699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600" spc="-1" strike="noStrike">
                <a:solidFill>
                  <a:srgbClr val="0070c0"/>
                </a:solidFill>
                <a:latin typeface="Trebuchet MS"/>
              </a:rPr>
              <a:t>Work Package 6: Communic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15" descr=""/>
          <p:cNvPicPr/>
          <p:nvPr/>
        </p:nvPicPr>
        <p:blipFill>
          <a:blip r:embed="rId3"/>
          <a:stretch/>
        </p:blipFill>
        <p:spPr>
          <a:xfrm>
            <a:off x="0" y="6211800"/>
            <a:ext cx="5478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324000" y="2781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0070c0"/>
                </a:solidFill>
                <a:latin typeface="Trebuchet MS"/>
              </a:rPr>
              <a:t>Activity C.4 – Promotional Materi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39680" y="3224160"/>
            <a:ext cx="76723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8480" indent="-342720">
              <a:lnSpc>
                <a:spcPct val="150000"/>
              </a:lnSpc>
              <a:buClr>
                <a:srgbClr val="17b0e4"/>
              </a:buClr>
              <a:buFont typeface="Arial"/>
              <a:buChar char="•"/>
              <a:tabLst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motional materials will be produced throughout the project to include information on regional resources and fuel assessments.  Products and services will be promoted on line and print resources inclusive of a directory of resources listing support agencies in each reg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28480" indent="-342720">
              <a:lnSpc>
                <a:spcPct val="150000"/>
              </a:lnSpc>
              <a:tabLst>
                <a:tab algn="l" pos="0"/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28480" indent="-342720">
              <a:lnSpc>
                <a:spcPct val="150000"/>
              </a:lnSpc>
              <a:tabLst>
                <a:tab algn="l" pos="0"/>
                <a:tab algn="l" pos="1346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324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250920" y="15699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600" spc="-1" strike="noStrike">
                <a:solidFill>
                  <a:srgbClr val="0070c0"/>
                </a:solidFill>
                <a:latin typeface="Trebuchet MS"/>
              </a:rPr>
              <a:t>Work Package 6: Communic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15" descr=""/>
          <p:cNvPicPr/>
          <p:nvPr/>
        </p:nvPicPr>
        <p:blipFill>
          <a:blip r:embed="rId2"/>
          <a:stretch/>
        </p:blipFill>
        <p:spPr>
          <a:xfrm>
            <a:off x="0" y="6211800"/>
            <a:ext cx="5478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250920" y="28195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70c0"/>
                </a:solidFill>
                <a:latin typeface="Trebuchet MS"/>
              </a:rPr>
              <a:t>Deliverables C.4.1 Materials to promote products and servic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611280" y="337176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b0f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irectory of regional support servi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b0f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ports of local findings and energy resour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b0f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6 monthly electronic newslet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b0f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Online training support videos for commun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250920" y="15699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600" spc="-1" strike="noStrike">
                <a:solidFill>
                  <a:srgbClr val="0070c0"/>
                </a:solidFill>
                <a:latin typeface="Trebuchet MS"/>
              </a:rPr>
              <a:t>Work Package 6: Communic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324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"/>
          <p:cNvPicPr/>
          <p:nvPr/>
        </p:nvPicPr>
        <p:blipFill>
          <a:blip r:embed="rId2"/>
          <a:stretch/>
        </p:blipFill>
        <p:spPr>
          <a:xfrm>
            <a:off x="0" y="6211800"/>
            <a:ext cx="5478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Clar Ich Logo V3"/>
          <p:cNvPicPr/>
          <p:nvPr/>
        </p:nvPicPr>
        <p:blipFill>
          <a:blip r:embed="rId1"/>
          <a:stretch/>
        </p:blipFill>
        <p:spPr>
          <a:xfrm>
            <a:off x="3355920" y="336600"/>
            <a:ext cx="1689120" cy="127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371760" y="3056040"/>
            <a:ext cx="1657440" cy="1358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3"/>
          <a:stretch/>
        </p:blipFill>
        <p:spPr>
          <a:xfrm>
            <a:off x="5749920" y="2862360"/>
            <a:ext cx="1655640" cy="1484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4"/>
          <a:stretch/>
        </p:blipFill>
        <p:spPr>
          <a:xfrm>
            <a:off x="287280" y="4797360"/>
            <a:ext cx="242748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A close up of a sign&#10;&#10;Description automatically generated"/>
          <p:cNvPicPr/>
          <p:nvPr/>
        </p:nvPicPr>
        <p:blipFill>
          <a:blip r:embed="rId5"/>
          <a:stretch/>
        </p:blipFill>
        <p:spPr>
          <a:xfrm>
            <a:off x="3132000" y="4908600"/>
            <a:ext cx="2427480" cy="650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0" descr=""/>
          <p:cNvPicPr/>
          <p:nvPr/>
        </p:nvPicPr>
        <p:blipFill>
          <a:blip r:embed="rId6"/>
          <a:srcRect l="0" t="0" r="-3137" b="8661"/>
          <a:stretch/>
        </p:blipFill>
        <p:spPr>
          <a:xfrm>
            <a:off x="5977080" y="4556160"/>
            <a:ext cx="1485720" cy="1243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A picture containing clipart&#10;&#10;Description automatically generated"/>
          <p:cNvPicPr/>
          <p:nvPr/>
        </p:nvPicPr>
        <p:blipFill>
          <a:blip r:embed="rId7"/>
          <a:stretch/>
        </p:blipFill>
        <p:spPr>
          <a:xfrm>
            <a:off x="395280" y="3429000"/>
            <a:ext cx="1981080" cy="790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7" descr=""/>
          <p:cNvPicPr/>
          <p:nvPr/>
        </p:nvPicPr>
        <p:blipFill>
          <a:blip r:embed="rId8"/>
          <a:stretch/>
        </p:blipFill>
        <p:spPr>
          <a:xfrm>
            <a:off x="0" y="0"/>
            <a:ext cx="1763640" cy="13240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0"/>
          <p:cNvSpPr/>
          <p:nvPr/>
        </p:nvSpPr>
        <p:spPr>
          <a:xfrm>
            <a:off x="2418480" y="18432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5400" spc="-1" strike="noStrike">
                <a:solidFill>
                  <a:srgbClr val="0070c0"/>
                </a:solidFill>
                <a:latin typeface="Trebuchet MS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15" descr=""/>
          <p:cNvPicPr/>
          <p:nvPr/>
        </p:nvPicPr>
        <p:blipFill>
          <a:blip r:embed="rId9"/>
          <a:stretch/>
        </p:blipFill>
        <p:spPr>
          <a:xfrm>
            <a:off x="0" y="6211800"/>
            <a:ext cx="5478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9:14:09Z</dcterms:created>
  <dc:creator>Clar ICH Clar ICH</dc:creator>
  <dc:description/>
  <dc:language>en-US</dc:language>
  <cp:lastModifiedBy>Alma Gallagher</cp:lastModifiedBy>
  <cp:lastPrinted>2019-05-21T12:46:19Z</cp:lastPrinted>
  <dcterms:modified xsi:type="dcterms:W3CDTF">2019-08-08T11:17:02Z</dcterms:modified>
  <cp:revision>240</cp:revision>
  <dc:subject/>
  <dc:title>Presentation by  Clár ICH Ltd.</dc:title>
</cp:coreProperties>
</file>